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B75-3EA3-42AD-9568-25DCE06B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7CD-805B-4C9B-A013-05644277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787-335F-4EF5-ACB0-AB9B5919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78D-66CF-4463-90D7-302A16C6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C598-E26E-4346-89DD-E9B32C2D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C4F5-6A59-450A-A298-46E6EA1C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1C8F-EF2B-4595-8242-9FC62E7D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1D57-2CB2-45C1-B666-0CF2084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5124-8254-4986-8B0A-3987FC8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CF57-D5F9-48CC-B96F-91260CB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6B88-53D8-4DD0-A3A1-78168F2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4A9-CCD8-4AC4-8B3A-E451BA4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7104-031E-4196-9A2F-D10912FE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C61A-2960-4864-86A9-9EEE938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E006-C4CB-40B6-86C9-210D989B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DDD-2595-4334-9BDD-31F74925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D01D-E36B-4861-A0C0-E2719524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5C6E-1C65-4216-9394-0B2EDE4C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F358-EDCE-42C9-A968-4B5540C0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8986-13DE-4842-B694-EACFBF71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26D5-E709-46F5-B9EB-BF7BB3FE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EC04-EA47-4CAE-9CE6-6E0666D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1F6-86EE-43B8-A419-B01FEC8A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CFA6-F6F8-4032-B343-FCFE0BDF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9666-74FD-49C5-ADD7-4FA8656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1DF6-4FF7-4145-9E37-E6502CA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4943-B151-4739-87B7-AED529DB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C9A8-9AB7-4E8A-949D-462DBC5F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DD8F-A68A-4363-81EB-F6EBE8C7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6A44-81D0-4F9F-8F50-9F1EE0D9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1436-E688-474A-A889-6E5D8399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AD6D-D44E-4178-BAAD-D4F18C2C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DE0C-0963-430D-97E6-8BA64E2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108-2B2F-4270-BF44-4E620FEC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D2FA-316F-42CC-9374-0A74D551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71D5-23E9-4363-A7DD-2B36E4C6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799F-EBC1-4E6E-9CF9-E93CFB1F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D660-C5D3-4384-BDD6-246231E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5D40-4319-4C98-A5EC-36CB7F44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6913-C54B-42B5-8111-77150AE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9954A-A06E-4CBA-BBDB-29D7DFC4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54C9-D0E2-4B65-A930-F96071F3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7930-B69B-426A-895F-1C21CEB0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A47-D40F-45D7-9F18-8DC1F4F7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A86-A33B-4682-99B5-8F0AF68E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268-3B1F-4655-831C-E0AA2B9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B0E-B3A5-4100-B5CE-E09ECBD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CAE-4BE5-4DE1-BD42-9ED649B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E5C9-22AF-4976-9FCC-F732D3D872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A2EC-B43B-4A51-A739-30AFC23E2A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72E7-39AF-48C5-B1A0-9E4A64CB7C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22F4-93CF-4A6C-9F7C-AC8C70E337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лепительная улыб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ла: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редихина Юлия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ца 4 класса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ководитель: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рошилова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катерина Ивановна,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начальных кла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8080" y="1844640"/>
            <a:ext cx="3733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Зубы- это зеркало организма и отношения к своему здоровью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аждый человек должен след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 своими зубами и т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н будет зд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 него будет ослепительная улыб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i-main-pic" descr="Картинка 46 из 146"/>
          <p:cNvPicPr/>
          <p:nvPr/>
        </p:nvPicPr>
        <p:blipFill>
          <a:blip r:embed="rId1"/>
          <a:stretch/>
        </p:blipFill>
        <p:spPr>
          <a:xfrm>
            <a:off x="1835280" y="4076640"/>
            <a:ext cx="5257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32000" y="1125360"/>
            <a:ext cx="6985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Строение человеческого зу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7" name="zub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759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вять правил, которые помогут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ить зубы здоровыми и красивыми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Чистить зубы два раза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Соблюдать правильную технику чистки зу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Хотя бы один раз в день чистить зубы фло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Применять зубочи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 Соблюдать правила употребления сладкой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 Ополаскивать рот водой или зубными эликсирами после каждого приема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 Чаще употреблять фрукты и ов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 Посещать стоматолога два раза 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 Вести здоров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-main-pic" descr="Картинка 7 из 146"/>
          <p:cNvPicPr/>
          <p:nvPr/>
        </p:nvPicPr>
        <p:blipFill>
          <a:blip r:embed="rId1"/>
          <a:stretch/>
        </p:blipFill>
        <p:spPr>
          <a:xfrm>
            <a:off x="7812000" y="189000"/>
            <a:ext cx="1073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66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убы чистим пастой мятной, ароматной и приятной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Щеткой действуем умело. Зубы станут очень белы!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3280" y="1599840"/>
            <a:ext cx="410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пеши себя изб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налета на зу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так легко исправ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щетка есть в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 минуты ровным сч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ти сверху и с бо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нутри борись с налет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лым врагом твоих зу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закончена работ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щи водой, 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противного на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останется с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i-main-pic" descr="Картинка 7 из 146"/>
          <p:cNvPicPr/>
          <p:nvPr/>
        </p:nvPicPr>
        <p:blipFill>
          <a:blip r:embed="rId1"/>
          <a:stretch/>
        </p:blipFill>
        <p:spPr>
          <a:xfrm>
            <a:off x="7596360" y="189000"/>
            <a:ext cx="1288800" cy="1152360"/>
          </a:xfrm>
          <a:prstGeom prst="rect">
            <a:avLst/>
          </a:prstGeom>
          <a:ln w="0">
            <a:noFill/>
          </a:ln>
        </p:spPr>
      </p:pic>
      <p:pic>
        <p:nvPicPr>
          <p:cNvPr id="204" name="i-tmb-0x" descr=""/>
          <p:cNvPicPr/>
          <p:nvPr/>
        </p:nvPicPr>
        <p:blipFill>
          <a:blip r:embed="rId2"/>
          <a:stretch/>
        </p:blipFill>
        <p:spPr>
          <a:xfrm>
            <a:off x="684360" y="1600200"/>
            <a:ext cx="3630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ак правильно чистить зубы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81360" y="1628280"/>
            <a:ext cx="498168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. Производят короткие движения,   располагая зубную щётку под углом   к з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54160" y="3941280"/>
            <a:ext cx="48322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. Зубную щётку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полаг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д   углом к зубу производя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ыметающие движения от десны к краю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230560" cy="1873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22431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Как правильно чистить зуб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356000" y="1599840"/>
            <a:ext cx="4788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3. Зубную щётку располагаю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горизонтально и произв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движения вперёд-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4720" y="3941280"/>
            <a:ext cx="4680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4. Зубную щётку располагаю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вертикально, направлени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движения – от десны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режущему краю з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3024000" cy="2158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3167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Как правильно чистить зуб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427280" y="1599840"/>
            <a:ext cx="4259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аканчивают чистку зубов    круговыми движениями 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щетки с захватом зубов и  дёсен при сомкнутых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челюстя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427280" y="3933360"/>
            <a:ext cx="4537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бы в стадии прорезывания   чистят горизонтальными 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движениями вперёд-назад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сполагая зубную щётку, как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казано на рисунк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313080" cy="2087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3313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чистим, чистим 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есело жив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тем, кто их не чис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песенку сп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й, давай, не зевай,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ах не забы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тить зубы не лен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зу вверх, сверху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-main-pic" descr="Картинка 16 из 146"/>
          <p:cNvPicPr/>
          <p:nvPr/>
        </p:nvPicPr>
        <p:blipFill>
          <a:blip r:embed="rId1"/>
          <a:stretch/>
        </p:blipFill>
        <p:spPr>
          <a:xfrm>
            <a:off x="914400" y="1844640"/>
            <a:ext cx="3657600" cy="4105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1440000" cy="1403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1795320" cy="1484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292400" cy="153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093080" y="0"/>
            <a:ext cx="1466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9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27" name="i-main-pic" descr="Картинка 4 из 146"/>
          <p:cNvPicPr/>
          <p:nvPr/>
        </p:nvPicPr>
        <p:blipFill>
          <a:blip r:embed="rId1"/>
          <a:stretch/>
        </p:blipFill>
        <p:spPr>
          <a:xfrm>
            <a:off x="0" y="1773360"/>
            <a:ext cx="442764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1640" y="159984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поел, почисти зу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ай так два раза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почти конфетам фрук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чень важные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бы зуб не беспокоил, по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вило так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стоматологу идем в год д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а на пр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тогда улыбки свет сохрани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много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8:51:45Z</dcterms:created>
  <dc:creator>Admin</dc:creator>
  <dc:description/>
  <dc:language>en-US</dc:language>
  <cp:lastModifiedBy>Admin</cp:lastModifiedBy>
  <dcterms:modified xsi:type="dcterms:W3CDTF">2002-12-31T17:14:01Z</dcterms:modified>
  <cp:revision>37</cp:revision>
  <dc:subject/>
  <dc:title>Ослепительная улыбка</dc:title>
</cp:coreProperties>
</file>